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7A2DE5-2C3D-4FD6-A38E-2E7152A2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0C889-D3C0-4733-B4B1-3A92639A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6C249-FAB8-4150-8922-6BD35593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FCF01-618C-4A1F-AAC3-88CB2E86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24895-C4D4-47FC-860F-28268541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86731-7CF2-422A-AB57-2B19C316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5BDDB-DA7B-4DCD-A71E-B714F4E9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F5B7F-9EB2-45C2-AA1B-AAB9CC25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C39F8-2F10-48D1-A249-B8910979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4DB92-303F-41F9-8CF2-D06C3EBC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0B85B9-96CE-48B4-86C3-C31C8F1C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D7AD0-EEB4-4961-A37E-0EF4111D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77652-0A77-49C1-90B4-2B90E3FD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3EC16-4456-45B1-A640-DA84B9A9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E8DCD-24CC-4918-A462-7ACFE520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B66CA0-C559-49B4-A029-341D75A6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36BC19-5C79-4B8A-A86A-623669EA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42F79-6E4B-42A2-889D-54EAE8C4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E9778-1675-4D5D-A5FD-64BEFDB1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4D466F-AB15-42E4-AC36-5F48BB13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D7C14-241B-4DB4-BEB9-4B4FB606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6FACAD-47EF-483E-A6CE-D60494DE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647D28-4C5C-40E7-B838-E49A7FEA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F4BEB0-9783-4BEA-B663-93D7A0C3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0A34B2-074C-41BD-92DE-ECF47B9B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991F58-6AF1-4D4A-9599-E9129219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91E57C-1CFC-4825-88D4-64ED6AD6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D96BE7-707F-4AE9-86E1-6BF3950F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51053D-7D51-41A2-BF6E-FC76D5A2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ACE42C-4B94-49E1-A9E3-9035B376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17627-E520-42B8-99F9-E80B997B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F34C5C-B028-4BE0-A6B9-B2E6F6D7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BAC4B4-5DB2-4888-B359-F6F51464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0AD19C-8E67-4935-82D1-960DE73C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04E75-FACE-47E0-935A-9766C87B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D2AD0-49FF-4348-B19B-27E1E0C7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4F26F-8985-4369-990F-517C7334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8D5CD-E84E-41B9-BAC2-188874C8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10CA2-B90E-421B-BF88-1CD94BFC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AABBD-A50E-48C6-977A-2BFF0E8B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977D1F-6177-4F9A-A086-25D02964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F2CF6-3E65-4F36-ABB3-ACB0F4DF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F726C-548A-4923-859F-BEC27CD3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667EC-1BD3-48A8-A803-3059E77E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0CD0C-41D0-4F49-8B45-67B3E4CC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158263-4546-49A4-A6F0-8B9F6CBB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06CA7-1542-4654-90A9-ADA1E76A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79C0A6-80B8-45A3-A847-A8C1DA19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CF6802-AACA-48D0-A9BF-60236CE6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723B95-5F10-48D2-9A0B-D334150C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D39048-BA0B-4512-8B96-FC0932FD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14141B-E1A7-4EB2-9F43-8B4D8072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C5BF8-41F0-43B0-9C47-3DA9B5FE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52A5E8-2504-420C-A2C0-A76DA725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E6AAB1-08D4-4EC6-9239-5F54CA84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6B0D45-A967-4B1D-B17B-C561ED34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A9D3CE-6CA0-43E0-BB7C-9AA868BF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4F3A78-4177-45D2-98BA-E3C741D1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A4BACD-CA86-4AB9-8158-5AA812D0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A4B894-BE9A-4A42-A6BA-829C5C46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4D0BB8-C0FF-4812-B7A9-31CC5778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2C6767-BE56-41ED-AF7D-E5DD775C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8FD043-E2D7-4221-943F-C2496D3F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9092D-3862-454C-94E1-3ECE4CA5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33BB72-2E00-478D-B8BF-7CF8868F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1A97FBE-5575-4FAA-AAFD-9B68C620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C246969-6561-4BE2-9C9D-B2173F47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A9E358E-952A-4636-89FE-F285E6AF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420474-E8AF-4711-BD0B-6CD0918E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252253-9A6E-4BAF-B378-AEC90F90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1213B0E-4F0F-46EB-BE92-095669B0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ABCECF-AA1E-4B03-9538-C77C803D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3F6DB84-56CE-4074-B053-077A28E0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053583-D6DA-4E3F-9C20-9038359A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6A194-E9FB-4E24-B55F-24C65F45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930B1F-E79E-4403-89AA-2293D17F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A9D5EC4-93AD-4605-9D61-63B16596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63C14C9-99F3-4269-A604-8130EB97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DF8327-8C69-4365-89E7-B14A9E92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0EE93C2-B95D-48C8-AA32-AAC0A69F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80726B-622B-43AE-8F27-7851BE10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64E2426-7EAB-45E7-82F7-61E9C901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AD6AFD-FB2D-43A6-A4AA-0B70C966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F5001DE-2CDA-46A3-821F-5C161F29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011C4ED-A0E1-4AA2-A79D-72B46679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559C8-44D5-4AF6-95D6-112C8CA4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AD93166-FDA8-4ADA-B351-1D3F3A83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88B09-06DB-49C2-A76E-3A7DE249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3D6B2-2F65-4316-9C07-9C669BC9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62D1E-ECE2-4D58-9CD8-6ADDE218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54D09-DBB5-4D4B-B36E-F7F7A868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B30BB-D71D-4FDD-8954-EF40F724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46605-0234-4818-B4AC-32DA5272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7EF4CE-4CF5-4A66-8C71-E29A9585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79FC14-F1BC-48E5-BBDB-D0548218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7225B4-0A66-44D5-9170-6CBDD12F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7635C9-608F-43E4-BC86-3E368600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740DEA-3C9D-4783-9A78-589A856B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671F9E-7328-4599-9846-AB190682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5AA456-1986-414B-8F83-72526982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E9FFD-C227-44A9-9383-B58350AE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A8DDB1-DED9-4B7A-8CAA-21B55154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31F5C7-CE0B-478E-9B4D-87284CD9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A5E716-57D2-470C-AB56-19CC6A8B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E3DB9F-673B-4530-BBD7-C5CFCC96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EF38D9-677F-498B-B857-D340F913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241FC8-0B5C-49E4-8A71-AB0C74F9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18108B-C8B8-4CBE-AD87-6C19B2F4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DF9D9E-B4EA-4BCF-AF23-C0FA7C39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8A9897-F9EE-42E0-9245-900FD5DA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A6ACE2-8F6A-47E2-AB3D-0AFE3B83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8ED9C8-8349-4C63-A5BD-2E8F6FE8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69E8E3-E215-4163-AEDA-F962F6A9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DEB8F3-4FD6-4245-97AC-5AB3AA30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44D453-747C-434A-BAC5-691EC073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B9DA69-14F6-4C90-9731-AAF99829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FCD646-9894-4D3E-BF36-05F09F10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BE428A-5529-4B39-B271-771E7581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1C1398-15FD-44DE-B8A0-2F804A59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6C00A6-ED94-48AD-8876-3EFC98AA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686083-485A-4946-A22B-0D3F39F4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B3F8AE-0013-495F-AABD-0796B879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0BC406-41E8-4951-AEED-BFF51CF6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B03CBE-42F6-44A4-9A18-012B9331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F83ED5-2B20-4298-A535-76E0A293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476464-C151-4129-8AC9-6981AEDE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8EDA2A-AF9C-49BC-8261-04822F4F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A5EF6B-57A7-4CC4-BAB7-6B7D04C1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71D0FE-1047-4F67-8C62-81F25751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E5C49B-986E-4587-A589-70B12F32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659EC7-6FC7-42D3-BF3D-C936FB9D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3106A1-67F9-4BF6-8D68-9AA0F486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DB68E8-0AED-45AF-BB20-7D76BC38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60B6FE-3C4E-4AB3-B4E8-AEE0F29F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86A4A3-97FC-4E7D-AB1C-E63C2AC8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2889B6-36C3-4567-AEB5-F71193EB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1F0465-A25E-4A73-959F-9D14603C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077DED-7D3E-4BBC-9F9E-DB5D6D75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0B204D-9968-43BE-A233-0FF151E5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291910-B600-41BA-8207-43BA8D72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299D90-02B2-453C-80CF-1EAB72CB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8407A7-1944-4454-90E2-D9E8965C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2C1ADA-7DDB-474A-A116-0B5C855C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9969C4-B4CE-4CC0-996A-028B97D4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A66074-00AD-4EAE-BC53-A524E739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F92BA1-98D7-4266-87D5-F7DA3738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498527-14BA-4E22-82DC-9C94C937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0B3ECD-0F97-4283-B796-2F1F5C2B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E9C402-67BB-4254-BBB7-8E5B1769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C0EAC2-EE19-4D3C-AA9D-A05C33D6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804AFE-0F96-47E0-9C77-15AA8B2A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B6523A-AD3D-49D2-90CB-6AD3280E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3EA3DF-33BA-4A8F-AB62-3BCA3AED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9FFADA-4E7D-49D0-A206-C459DE89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063F67-EDA4-4B58-9ABF-F5D276EC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9F0F4A-7752-48DD-8B87-CFAA3E62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025D69-5D40-426C-95EA-B9341990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2B604B-8581-48F0-90C2-A9F641E8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3188A0-6ED1-45C9-9CB4-33773405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7D1BFA-1FD7-45C8-A98A-14C91103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907650-52CD-4BB9-8178-0544A2F3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E0A0D6-93E1-49F7-B2BE-77B50AAD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3643DE-BB94-4266-9748-9BFDC2FC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D580F0-813F-4487-9FE4-73DAEBB6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C830F4-AD95-493F-B1B0-EBD643F0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4D67C-7C09-48B0-8C27-460738F5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1E862-1631-48DD-A68F-24AC47E2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C0992-3106-475F-86B5-1CA25C19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purple cogs"/>
          <p:cNvPicPr/>
          <p:nvPr/>
        </p:nvPicPr>
        <p:blipFill>
          <a:blip r:embed="rId2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ort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Rad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5" name="Rad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Rechtec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htec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Picture 8" descr="purple cogs"/>
          <p:cNvPicPr/>
          <p:nvPr/>
        </p:nvPicPr>
        <p:blipFill>
          <a:blip r:embed="rId4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01B5-809F-4A9C-9711-459FB20EC6B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hteck 13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hteck 1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5E71-52EC-4D76-8DD6-0239028046D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E6A0-7D71-44CB-8530-73DAA6960BC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Rechteck 13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546" name="Rechteck 13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Flussdiagramm: Prozess 15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lussdiagramm: Prozess 16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9373-2C41-4192-8969-C9D59240B04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ort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Rad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94" name="Rad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Rechtec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htec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8" descr="purple cogs"/>
          <p:cNvPicPr/>
          <p:nvPr/>
        </p:nvPicPr>
        <p:blipFill>
          <a:blip r:embed="rId4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507D-B566-49DF-A07E-E861AB326E6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ort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Rad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643" name="Rad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Rechtec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htec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Picture 8" descr="purple cogs"/>
          <p:cNvPicPr/>
          <p:nvPr/>
        </p:nvPicPr>
        <p:blipFill>
          <a:blip r:embed="rId4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2138-EF28-40D2-8932-2EAFC82B1E4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1C9F-9ABD-4B37-86D6-2D41FC719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UoE Corporate PowerpointTitle3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ort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Rad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85" name="Rad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htec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A199-F621-4F60-B43E-6430490C14A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htec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purple cogs"/>
          <p:cNvPicPr/>
          <p:nvPr/>
        </p:nvPicPr>
        <p:blipFill>
          <a:blip r:embed="rId4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purple cogs"/>
          <p:cNvPicPr/>
          <p:nvPr/>
        </p:nvPicPr>
        <p:blipFill>
          <a:blip r:embed="rId2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5DA1-E583-4641-B72E-BA4A566C13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ort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Rad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76" name="Rad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Rechtec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htec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8" descr="purple cogs"/>
          <p:cNvPicPr/>
          <p:nvPr/>
        </p:nvPicPr>
        <p:blipFill>
          <a:blip r:embed="rId4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  <p:grpSp>
        <p:nvGrpSpPr>
          <p:cNvPr id="181" name="Ellipse 13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82" name="Ellipse 13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Ellipse 15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0D25-FB8A-4C29-81B9-738590C6647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ort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Rad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29" name="Rad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Rechtec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htec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purple cogs"/>
          <p:cNvPicPr/>
          <p:nvPr/>
        </p:nvPicPr>
        <p:blipFill>
          <a:blip r:embed="rId4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6DEC-21EA-447B-ACA6-75CC9DF0248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hteck 13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hteck 15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Ellipse 16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78" name="Ellipse 16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Ellipse 17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764B-76DA-4D3F-B53F-7B4AD5753CE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ort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El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Rad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5" name="Rad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Rechtec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htec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8" descr="purple cogs"/>
          <p:cNvPicPr/>
          <p:nvPr/>
        </p:nvPicPr>
        <p:blipFill>
          <a:blip r:embed="rId4"/>
          <a:srcRect l="0" t="0" r="13091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78ED-253A-41FB-9328-16A1E889E2D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05D6-5345-4E74-A8AF-63A10F03373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8"/>
          <p:cNvSpPr/>
          <p:nvPr/>
        </p:nvSpPr>
        <p:spPr>
          <a:xfrm>
            <a:off x="4067280" y="59500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alile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uide to becoming a leader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8"/>
          <p:cNvSpPr/>
          <p:nvPr/>
        </p:nvSpPr>
        <p:spPr>
          <a:xfrm>
            <a:off x="971640" y="1052640"/>
            <a:ext cx="817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Groups of 4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Examine and discuss the Team Project Leader job descrip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What are the key responsibilities of the team leader rol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5437080" y="26028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684360" y="2276280"/>
            <a:ext cx="770544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Guide/coordinate team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members – encourage teamwork and motivate individual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Provide structure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for team – set mission and purpose, clarify roles and responsibilities, allocate tasks and set objective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Clarify working methods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, practises and behaviour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Focus on performance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– anticipate challenges, monitor performance, delegate and provide CPD suppor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3" name="Rectangle 5"/>
          <p:cNvSpPr/>
          <p:nvPr/>
        </p:nvSpPr>
        <p:spPr>
          <a:xfrm>
            <a:off x="558144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1116000" y="134136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0" y="148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Key Team Leader Responsibilit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1547640" y="2349360"/>
            <a:ext cx="66088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Responsibility Vs Accountabilit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What does having authority mean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543708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8190000" y="4960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684360" y="2205000"/>
            <a:ext cx="79912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Accountability the state of being accountable, liable, or answerabl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Responsibility can be delegated but accountability can not – buck stops with you!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A good leader accepts ultimate responsibility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will give credit to others when delegated responsibilities succe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will accept blame when delegated responsibilities fai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Accountability can not operate fairly without the leader being given full authority for the responsibilities concern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Authority is the power to influence or command thought, opinion or behaviou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1628640"/>
            <a:ext cx="914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ccountability vs Responsi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6"/>
          <p:cNvSpPr/>
          <p:nvPr/>
        </p:nvSpPr>
        <p:spPr>
          <a:xfrm>
            <a:off x="529416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755280" y="1773000"/>
            <a:ext cx="76899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Gill Sans MT"/>
              </a:rPr>
              <a:t>Group Exercise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When have you experienced an issue as a leader that you did not have the authority to resolve?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How did you know you did not have the authorit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ho did you refer to for help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se examples from your own current experience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ork, volunteer, club /socie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543708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684360" y="206028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Team Leader authority will vary from role to role dependent on the scope of duties and organisational structur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A Team Leader may refer to line management or oth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authorities for the following:</a:t>
            </a:r>
            <a:br>
              <a:rPr sz="2200"/>
            </a:b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HR (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staff recruitment  and training, performance and discipline, racism or bullying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Policy and procedures</a:t>
            </a:r>
            <a:r>
              <a:rPr b="1" lang="en-GB" sz="15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Health and Safety, changes to working practise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Budget &amp; resources 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(allocation and management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Organisational objectives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(strategy, target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Managing change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(department restructure, office mov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Line management</a:t>
            </a: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 (support and advice, own CPD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543708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2628720" y="142236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eam Leader Author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08000" y="1348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72314"/>
                </a:solidFill>
                <a:latin typeface="Gill Sans MT"/>
              </a:rPr>
              <a:t>How to improve your leadership skill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684000" y="242064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Reflect and identify the skills YOU need to lead effectively and create your action plan to develop them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Ask for feedback from work colleagues, line managers, tutors, your ‘followers’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Practise! Take on responsibility (work, volunteering, clubs &amp; Societies) and reflect on your performance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SIFE - www.youtube.com/watch?v=KB2fOF_gYBg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Find a mentor – learn from positive leadership role-mode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Attend further leadership and management trai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Use the resources on Exeter Leaders Award ELE pag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551016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72314"/>
                </a:solidFill>
                <a:latin typeface="Gill Sans MT"/>
              </a:rPr>
              <a:t>Review your performance as a Leader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558144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826920" y="2060640"/>
            <a:ext cx="792180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dividual Exercise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sess yourself as a Leade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nduct a SWOT analysis - Strengths, Weaknesses, Opportunities, Threa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velop an Action Plan to improve as a lea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ist 2 actions you will undertake to address Weaknesses or capitalise on Opportunities identifi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ply SMART targets to your actions – Specific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easurable, Achievable, Realistic, Time-bou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72314"/>
                </a:solidFill>
                <a:latin typeface="Gill Sans MT"/>
              </a:rPr>
              <a:t>Session objectiv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00000" y="220500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What is leadership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Identify the traits and skills of an effective lea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Key leadership theor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Examine the role, duties and responsibilities of a Team Lea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Understand the limits of authority in a Team Leader ro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Develop a plan to develop your own leadership potential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514980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90560" y="1563840"/>
            <a:ext cx="8353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Understanding Leadership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971280" y="2898720"/>
            <a:ext cx="777708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What is leadership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Why is leadership important – why do we need lead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Leaders – born or bred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5510160" y="26028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ußzeilenplatzhalter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5a788"/>
                </a:solidFill>
                <a:latin typeface="Times New Roman"/>
              </a:rPr>
              <a:t>www.exeter.ac.uk/employabil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hteck 2"/>
          <p:cNvSpPr/>
          <p:nvPr/>
        </p:nvSpPr>
        <p:spPr>
          <a:xfrm>
            <a:off x="1042920" y="213372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n who wants to lead the orchestra must turn his back on the crow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 Lucad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hteck 3"/>
          <p:cNvSpPr/>
          <p:nvPr/>
        </p:nvSpPr>
        <p:spPr>
          <a:xfrm>
            <a:off x="5003640" y="429264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hrone is only a bench covered with velve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poleon Bonapart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hteck 4"/>
          <p:cNvSpPr/>
          <p:nvPr/>
        </p:nvSpPr>
        <p:spPr>
          <a:xfrm>
            <a:off x="1042920" y="429264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ership does not depend on being r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van Illich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hteck 6"/>
          <p:cNvSpPr/>
          <p:nvPr/>
        </p:nvSpPr>
        <p:spPr>
          <a:xfrm>
            <a:off x="1547640" y="260280"/>
            <a:ext cx="65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upreme quality for leadership is unquestionably integrity. Without it, no real success is possi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2d050"/>
                </a:solidFill>
                <a:uFillTx/>
                <a:latin typeface="Times New Roman"/>
              </a:rPr>
              <a:t>Dwight D. Eisenhow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hteck 7"/>
          <p:cNvSpPr/>
          <p:nvPr/>
        </p:nvSpPr>
        <p:spPr>
          <a:xfrm>
            <a:off x="5003640" y="2133720"/>
            <a:ext cx="39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implest terms, a leader is one who knows where he wants to go, and gets up, and goes.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Times New Roman"/>
              </a:rPr>
              <a:t>Ohn Ersk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900000" y="1988640"/>
            <a:ext cx="73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Exercise In pairs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Discuss examples you have come across of strong and weak leadershi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You can use examples from school or extra curricular activ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Be anonymous, please!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551016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684000" y="2178000"/>
            <a:ext cx="813564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Gill Sans MT"/>
              </a:rPr>
              <a:t>Early Theories: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Gill Sans MT"/>
              </a:rPr>
              <a:t>Great Man Theories </a:t>
            </a:r>
            <a:r>
              <a:rPr b="0" lang="en-GB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Gill Sans MT"/>
              </a:rPr>
              <a:t>Leaders are exceptional people, born with innate qualities, destined to lead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Gill Sans MT"/>
              </a:rPr>
              <a:t>Term 'man' was intentional - concept was primarily male, military and Western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Gill Sans MT"/>
              </a:rPr>
              <a:t>Trait Theories </a:t>
            </a:r>
            <a:r>
              <a:rPr b="0" lang="en-GB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Gill Sans MT"/>
              </a:rPr>
              <a:t>Research on traits or qualities associated with leadership are numerous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Gill Sans MT"/>
              </a:rPr>
              <a:t>Traits are hard to measure. For example, how do we measure honesty or integrity?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0" y="148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dership The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5437080" y="26028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812520" y="1464840"/>
            <a:ext cx="67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72314"/>
                </a:solidFill>
                <a:latin typeface="Gill Sans MT"/>
              </a:rPr>
              <a:t>Leadership Trai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826920" y="2637000"/>
            <a:ext cx="7731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ill Sans MT"/>
              </a:rPr>
              <a:t>Group Exercise: 10 minu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hoose </a:t>
            </a:r>
            <a:r>
              <a:rPr b="0" i="1" lang="en-GB" sz="3200" spc="-1" strike="noStrike">
                <a:solidFill>
                  <a:srgbClr val="000000"/>
                </a:solidFill>
                <a:latin typeface="Gill Sans MT"/>
              </a:rPr>
              <a:t>five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leaders YOU admi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What personality traits and skills do they hav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5437080" y="26028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433080" y="2060640"/>
            <a:ext cx="4608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Trai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Adaptable to situations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Alert to social environment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Ambitious and achievement orientated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Assertive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Cooperative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Decisive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Dependable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Dominant (desire to influence others)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Energetic (high activity level)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Persistent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Self-confident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Tolerant of stress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Gill Sans MT"/>
              </a:rPr>
              <a:t>Willing to assume responsibility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4968720" y="2160720"/>
            <a:ext cx="406728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kill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Clever (intelligent)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Conceptually skilled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Creative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plomatic and tactful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Fluent in speaking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Knowledgeable about group task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Organised (administrative ability)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Persuasive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cially skilled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togdill, 1974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7"/>
          <p:cNvSpPr/>
          <p:nvPr/>
        </p:nvSpPr>
        <p:spPr>
          <a:xfrm>
            <a:off x="0" y="1557360"/>
            <a:ext cx="914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dership Traits and Skill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8"/>
          <p:cNvSpPr/>
          <p:nvPr/>
        </p:nvSpPr>
        <p:spPr>
          <a:xfrm>
            <a:off x="539640" y="609300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4932360" y="5516640"/>
            <a:ext cx="4032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Leaders will also use: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ntegrity, Honesty, Compassion, Humility 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10"/>
          <p:cNvSpPr/>
          <p:nvPr/>
        </p:nvSpPr>
        <p:spPr>
          <a:xfrm>
            <a:off x="558144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898560" y="1989000"/>
            <a:ext cx="7921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Transformational Theory 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(Bass and Avolio, 1994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7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Leaders inspire individuals, develop trust, and encourage creativity and personal growth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7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ndividuals develop a sense of purpose to benefit the group, organisation or society. This goes beyond their own self-interests and an exchange of rewards or recognition for effort or loyalty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5581440" y="1890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0" y="148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ew Leadership The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8:19:32Z</dcterms:created>
  <dc:creator> Careers Advisory Service</dc:creator>
  <dc:description/>
  <dc:language>en-US</dc:language>
  <cp:lastModifiedBy>Gymnasium Grootmoor</cp:lastModifiedBy>
  <dcterms:modified xsi:type="dcterms:W3CDTF">2014-07-02T10:14:49Z</dcterms:modified>
  <cp:revision>208</cp:revision>
  <dc:subject/>
  <dc:title>PowerPoint Presentation</dc:title>
</cp:coreProperties>
</file>